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FC86-88C5-42FB-8062-EB650CEC1B3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BD19-EC17-4273-AD60-73FD6C3347E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0C4DD-6F76-4C35-8EB6-E5638DFD87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77B65-16DE-4CA4-86CF-E9BEE130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ABEC9-460C-4F9B-962F-47F3E311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DE365-907E-4C62-B8C9-7D1CF77576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FCBBB-2AD2-456C-9E74-2A63A300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A34D3-D3FE-4BA4-8360-27C8CCB6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E8850-FCDE-4E80-9252-C4F382B3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42C6B-D305-4DE5-B76A-A40D0DF95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F9E13-EE8A-444C-99CA-144FC93EC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1B55C-4E44-42E2-B170-5E3A025B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C07AB-4DE2-4D82-B539-49D15278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EDAFE-DE02-41C5-B4A5-2C1FD962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ADCC-6B9C-4813-A25A-B95D4E3C2CF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27664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79280" y="1268280"/>
          <a:ext cx="8964720" cy="5220000"/>
        </p:xfrm>
        <a:graphic>
          <a:graphicData uri="http://schemas.openxmlformats.org/drawingml/2006/table">
            <a:tbl>
              <a:tblPr/>
              <a:tblGrid>
                <a:gridCol w="644760"/>
                <a:gridCol w="1442880"/>
                <a:gridCol w="2693880"/>
                <a:gridCol w="1843200"/>
                <a:gridCol w="2340000"/>
              </a:tblGrid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休克代偿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休克抑制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程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轻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中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重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清楚，伴有痛苦的表情，精神紧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尚清楚，表情淡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意识模糊，神志不清，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口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很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非常明显，可能无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皮肤黏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色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开始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显著苍白，肢端青紫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温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，发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发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厥冷（肢端更明显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脉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以下，尚有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速而细弱或摸不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6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血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正常或稍高，舒张压增高，脉压缩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为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9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，脉压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或测不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48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周围循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表浅静脉塌陷，毛细血管充盈迟缓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毛细血管充盈更迟缓，表浅静脉塌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少或无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估计失血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8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8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、尿和粪便常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生化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凝血功能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气分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乳酸盐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浆电解质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黏膜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流动力学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心静脉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毛细血管楔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CW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排出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心脏指数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后穹隆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有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危及生命的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或发病后的救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及家属的情绪变化、心理承受能力及对治疗和预后的了解程度，并了解引起其不良情绪反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尽早去除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恢复有效循环血量，纠正微循环障碍，恢复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强心肌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正常代谢和防止多器官功能障碍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入院后，立即开通两条静脉通道，按医嘱输同型红细胞悬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血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切口换药后进行冰敷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患者已进行了哪些治疗？还需如何处置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解决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安置患者于平卧位（非心源性休克可给予休克体位），血压稳定前禁止搬运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气道，给予大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因给予相应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初步容量复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血管活性药物辅助扩容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纠正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微循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积极处理原发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皮质类固醇使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并发症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ODS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大量失血，失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体交换受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缺氧和呼吸型态改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异常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感染、组织灌注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烦躁不安、意识不清、疲乏无力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器官功能障碍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休克的概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休克的病因和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休克患者的身心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C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时，测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11/70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患者精神好转，眼睑及口唇苍白好转，双下肢皮肤较前温暖，足背动脉搏动良好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应如何监测病情变化？②患者病情是好转还是恶化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压：收缩压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和（或）脉压差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mmHg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脉率 ：脉率增快多出现在血压下降之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状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末梢循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量 ：尿量少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5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比重增加，表明血容量不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静脉和周围静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心静脉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体液平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建立静脉通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液种类：先晶后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合理补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确记录出入量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取休克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使用抗休克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使用血管活性药物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缺氧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误吸、窒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休克好转指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神志清楚、安静，四肢温暖，末梢循环充盈良好，尿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ml/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脉搏有力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收缩压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 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脉压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.7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呼吸均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左右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.66 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红细胞压积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，血浆电解质和酸碱平衡基本正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各种导致有效循环血量锐减、组织血液灌流不足的因素均可引起休克，外科最常见原因是低血容量性和感染性休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病情的发展分为休克代偿期和抑制期，可以通过一看（神志、表情、口渴情况、皮肤黏膜色泽、毛细胞血管充盈时间）、二摸（四肢浅静脉、脉搏、肢端温度）、三测（动脉收缩压、脉压）、四量（尿量）来监测休克的临床表现，还可通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心输出量、动脉血气分析、动脉血乳酸盐含量等监测休克表现及进展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除休克外，应注意患者有无其他危及生命的情况需进行紧急救治，治疗中应尽早去除病因，迅速恢复有效循环血量，纠正微循环障碍，恢复组织灌注，增强心肌功能，防止脏器功能损伤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监测患者的血压、脉搏、微循环情况及血流动力学情况，尤其注意要迅速补充血容量，维持体液平衡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阐明休克的病理生理过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休克一般监测和特殊监测项目及意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各种类型休克的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主诉腹胀、腹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入院，肠镜提示距肛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可见一溃疡病变，病例提示腺癌，行直肠癌根治切除骶前吻合术，术后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7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.5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术后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患者出现寒战、高热、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1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辅助检查：血常规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BC 3.5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 0.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G 86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LT 80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血气分析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 7.2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a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E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.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电解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3.15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急诊剖腹探查发现：腹部切口呈化脓性感染，腹腔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脓性液体，骶前吻合有瘘口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患者发生了什么类型的休克？原因是什么？还出现什么问题？护理要点是什么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患者出现感染性休克，与术后吻合口瘘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患者同时出现低钾血症、代谢性酸中毒、呼吸功能损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护理要点包括补充血容量、控制感染、纠正酸碱失衡、应用血管活性药物应用皮质激素、重要器官功能不全护理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休克患者扩容治疗时首选的晶体液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9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氯化钠溶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碳酸氢钠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葡萄糖氯化钠溶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葡萄糖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平衡盐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提示有休克的休克指数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5   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5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＜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5 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肝硬化，突发大量呕血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00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患者烦躁，面色苍白，皮肤湿冷，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3.3/9.3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脉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其表现属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早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中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晚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未发生休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虚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失血性休克，正在进行扩容疗法，中心静脉压检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c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49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/50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9.3/6.7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加快输液速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维持原速输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减慢滴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停止输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加用强心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一休克患者，在抢救过程中出现呼吸困难、发绀，吸氧无效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持续降低。诊断为呼吸窘迫综合征，护理措施首先应采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呼吸终末正压给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持续吸纯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快速输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气管切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给血管活性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关于休克护理措施错误的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平卧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常规吸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给热水袋保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观察每小时尿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5mi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测血压、脉搏一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休克患者的临床表现和检查指标，判断其临床分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休克患者，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休克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hock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机体受到强烈的致病因素侵袭后，导致有效循环血量锐减、组织血液灌流不足所引起的以微循环障碍、代谢障碍和细胞受损为特征的病理性综合征。休克发病急骤，进展迅速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要是失血、脱水、血浆丢失、严重创伤等，最常见的类型是低血容量性和感染性休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女性。因右股骨头坏死，在腰硬联合麻醉下行“右髋关节置换术”，术中出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5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返回病房，留置伤口引流管一根，尿管一根，测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0/8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检查见敷料干洁，下肢肢端温暖，口唇淡红，引流正常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出现神志淡漠，口唇苍白，测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5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双下肢肢端皮肤温凉，少许出冷汗。检查见敷料渗血较多，伤口引流管引流暗红色血性液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留置尿管引流淡黄色尿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发生了什么问题？处于何阶段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评估要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代偿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精神紧张，烦躁不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面色苍白，皮肤湿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脉搏增快，呼吸增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压变化不大，但脉压缩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量正常或减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抑制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表情淡漠、反应迟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黏膜发绀或花斑、四肢冰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细速，呼吸浅促，血压进行性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浅静脉萎陷，毛细血管充盈时间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出现代谢性酸中毒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02:28Z</dcterms:modified>
  <cp:revision>89</cp:revision>
  <dc:subject/>
  <dc:title>内科护理学</dc:title>
</cp:coreProperties>
</file>